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B5D1-7BF9-49AA-809C-135F10CF0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8AC4-87E4-480B-8B68-7F22BA90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E733-CA65-409C-A4D9-3F114DF86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7D18-6051-414F-ACFD-BFA718454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9A0CD-5AAF-4896-A724-E7B01873B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2B902-1ADD-407F-8A14-54011FBA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38534-A4ED-47BF-BEBB-953F1CDD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4D08C-3249-4398-A486-D8D329D1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DEA50-EB67-4714-9189-2A40247A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F6AE6-5D88-4302-8FF0-D1868DF8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32FEF-2518-476D-B3EC-2CAA2645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3826-A1B0-4B55-811C-C71788F5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56A75-8C90-4D02-8663-7AFFC7A7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D4907-9716-4D96-87AB-C7664EC2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1A409-5CA0-4C7B-ABE8-5E2934A9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81894-F1E5-4A09-B254-3226FF481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C3F78-ADF6-41B5-B6F5-20683310B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8857-26B9-45D0-9D3A-3041E07D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EB6A-77FD-412E-8641-E73A59D9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FA64-B436-43EB-8839-022E40F3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DD51-FAD9-4FED-838C-4E0B7DDF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C29F-E701-48EB-AB33-9F3CA47F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8CDE-661C-41E0-8ED7-7AA09298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17BB-E404-462D-B77A-7AFCCC0E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FA18-5941-4462-93CD-B780CAC64E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F42C-E544-43F6-A588-61DB45B654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pener: Day 3 MSA Review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Objective:  Students will identify and describe parts of a circle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nd the circumfere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23960" y="133344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590920" y="1752480"/>
            <a:ext cx="3657600" cy="3353040"/>
            <a:chOff x="2590920" y="1752480"/>
            <a:chExt cx="3657600" cy="3353040"/>
          </a:xfrm>
        </p:grpSpPr>
        <p:sp>
          <p:nvSpPr>
            <p:cNvPr id="124" name=""/>
            <p:cNvSpPr/>
            <p:nvPr/>
          </p:nvSpPr>
          <p:spPr>
            <a:xfrm>
              <a:off x="2590920" y="1752480"/>
              <a:ext cx="3657600" cy="33530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733920" y="2674800"/>
              <a:ext cx="1447920" cy="13716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3200760" y="2141640"/>
              <a:ext cx="76176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75440" y="201132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3c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4496040" y="2903400"/>
              <a:ext cx="45720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94320" y="335268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1.25c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053720" y="5516640"/>
            <a:ext cx="622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ner Circle:  ____________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uter Circle:  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Objective:  Students will identify and describe parts of a circle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ord Problem: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meteor crater has a diameter of about 1175m. Find the circumference of the crater to the nearest met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248520" y="3124080"/>
            <a:ext cx="269712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mework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W pg. 153 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nit 6: Geomet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ive: Students will identify and describe the parts of a cir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4582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Objective:  Students will identify and describe parts of a circle.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Circl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is the set of all points in a plane that are the same distance from a point called the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cent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Radiu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(r) is the distance from the center to any point on the circl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Diameter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(d) is the distance across the circle through its center. (diameter is twice the radiu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5638680"/>
            <a:ext cx="75960" cy="76320"/>
          </a:xfrm>
          <a:prstGeom prst="ellipse">
            <a:avLst/>
          </a:prstGeom>
          <a:solidFill>
            <a:srgbClr val="33cccc">
              <a:alpha val="31000"/>
            </a:srgbClr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276720" y="4800600"/>
            <a:ext cx="1904760" cy="1676520"/>
            <a:chOff x="3276720" y="4800600"/>
            <a:chExt cx="1904760" cy="1676520"/>
          </a:xfrm>
        </p:grpSpPr>
        <p:sp>
          <p:nvSpPr>
            <p:cNvPr id="90" name=""/>
            <p:cNvSpPr/>
            <p:nvPr/>
          </p:nvSpPr>
          <p:spPr>
            <a:xfrm>
              <a:off x="3276720" y="4800600"/>
              <a:ext cx="1904760" cy="167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4267080" y="5181480"/>
              <a:ext cx="762120" cy="4572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178160" y="4800600"/>
            <a:ext cx="76320" cy="167652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Objective:  Students will identify and describe parts of a circle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ell which is shown, the radius or the diameter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2362320"/>
            <a:ext cx="91440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120" y="4800600"/>
            <a:ext cx="91440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72200" y="4876920"/>
            <a:ext cx="91440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28800" y="2362320"/>
            <a:ext cx="914400" cy="914400"/>
            <a:chOff x="1828800" y="2362320"/>
            <a:chExt cx="914400" cy="914400"/>
          </a:xfrm>
        </p:grpSpPr>
        <p:sp>
          <p:nvSpPr>
            <p:cNvPr id="98" name=""/>
            <p:cNvSpPr/>
            <p:nvPr/>
          </p:nvSpPr>
          <p:spPr>
            <a:xfrm>
              <a:off x="1828800" y="2362320"/>
              <a:ext cx="914400" cy="9144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86000" y="2362320"/>
              <a:ext cx="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 flipH="1">
            <a:off x="6172200" y="2819520"/>
            <a:ext cx="4572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2057040" y="495252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248520" y="5105160"/>
            <a:ext cx="838080" cy="438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275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775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275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775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9275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9775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6840" y="761760"/>
            <a:ext cx="38098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diameter, given the radius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r = 6c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r = 15c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r = 3.8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) r = 27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914400"/>
            <a:ext cx="373392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radius, given the diamet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d = 24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d = 9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d = 36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) d = 15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4560" y="304920"/>
            <a:ext cx="808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Objective:  Students will identify and describe parts of a 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ircumference (C): the distance around a circle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ircumference = pi ● diameter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l-GR" sz="3600" spc="-1" strike="noStrike">
                <a:solidFill>
                  <a:srgbClr val="ffffff"/>
                </a:solidFill>
                <a:latin typeface="Comic Sans MS"/>
              </a:rPr>
              <a:t>π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ircumference = 2 ● pi ● radiu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l-GR" sz="3600" spc="-1" strike="noStrike">
                <a:solidFill>
                  <a:srgbClr val="ffffff"/>
                </a:solidFill>
                <a:latin typeface="Comic Sans MS"/>
              </a:rPr>
              <a:t>π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380880"/>
            <a:ext cx="861048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Objective:  Students will identify and describe parts of a 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ircumfer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Objective:  Students will identify and describe parts of a circle.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ind the circumference of the circ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1.) d = 12f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Comic Sans MS"/>
              </a:rPr>
              <a:t>π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 = circumfer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Comic Sans MS"/>
              </a:rPr>
              <a:t>π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12) =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.14(12) =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7.68f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2.) r = 8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l-GR" sz="2400" spc="-1" strike="noStrike">
                <a:solidFill>
                  <a:srgbClr val="ffffff"/>
                </a:solidFill>
                <a:latin typeface="Comic Sans MS"/>
              </a:rPr>
              <a:t>π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= circumfer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(</a:t>
            </a:r>
            <a:r>
              <a:rPr b="0" lang="el-GR" sz="2400" spc="-1" strike="noStrike">
                <a:solidFill>
                  <a:srgbClr val="ffffff"/>
                </a:solidFill>
                <a:latin typeface="Comic Sans MS"/>
              </a:rPr>
              <a:t>π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(8) 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6.28(8) =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0.24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Objective:  Students will identify and describe parts of a circle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nd the circumfere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r = 5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d = 13c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d = 20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) r = 7c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Objective:  Students will identify and describe parts of a circle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nd the circumfere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4267080"/>
            <a:ext cx="1425600" cy="138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410080" y="1828800"/>
            <a:ext cx="1408320" cy="137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295280" y="1752480"/>
            <a:ext cx="1527120" cy="156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2565360" y="1371600"/>
          <a:ext cx="91440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65360" y="1371600"/>
                    <a:ext cx="9144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5257800" y="411480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019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1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20:08:12Z</dcterms:created>
  <dc:creator>TAMMY  COON</dc:creator>
  <dc:description/>
  <dc:language>en-US</dc:language>
  <cp:lastModifiedBy>deanne elizabeth mcgrath</cp:lastModifiedBy>
  <dcterms:modified xsi:type="dcterms:W3CDTF">2011-02-14T13:36:04Z</dcterms:modified>
  <cp:revision>26</cp:revision>
  <dc:subject/>
  <dc:title>Unit 6: Geometry</dc:title>
</cp:coreProperties>
</file>